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8849-3F2A-4A39-9602-3684C63D3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5725-A771-4A21-B396-8AD8CFB9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E9B2-9308-4C51-924A-8A7AAD0E0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93A4-BE4F-4F06-94D4-7BD67765D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A95C-2ADB-40F7-BED1-E5A6F22D4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F8AE-C95B-4B99-8E94-83FCFE95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BA95-1A7F-44DA-BC09-87FB5A07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D19F-09CB-4F00-B4C6-785F6871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F7CF-CE47-447F-BB12-5B9581A9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14DB-0346-47B7-BDA2-882F6E2E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1688-62EF-4CA4-AD02-8C29BB2D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069A-0FA8-47F2-8D13-7AB07F7C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1446-F5E4-4487-A29A-AAE41AF1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D3E3-E025-4FA3-9C08-B17F1289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A1CF-C810-46CB-8B8B-918E0FE9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2B00-4321-48A2-8E18-26FC9FFCC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88BA-23FF-47BE-BEB6-E9A82FA15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F03BC-B41E-452F-AD90-286C969ED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06D80-A48B-44B3-80D0-541B230E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4B9F7-0F84-4F09-976E-E3E8C91E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02838-5F60-45A1-BCA6-4814DB9C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5A04F-2746-4A26-A571-A9A626BA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69B5-F60B-4AC5-8F5F-C08C2A2A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9EAC1-14BC-4035-BA3B-35444BE8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D453B-D94F-4276-95F7-A50842FD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7BE18-0202-4165-B22D-344F2057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12A62-4195-4797-83F5-2DB8A791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3A275-82FD-4008-B651-C285C822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C4C0C-47B2-4675-8ACA-48E4108E7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08C7E-941F-4CE9-9B84-375DDA8D6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99FCD-9D1B-48B4-B934-ABD587996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E90A1-C7C4-4DF8-AE3E-0CE1A8AD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D7FF0-124F-4687-BBEE-17D8ABC76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3DE2-C954-47A7-AB3C-A2669939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F4F1E-E803-4745-A220-3E628D85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99EF2-D299-46F9-894C-A599C6AC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18293-11BC-4304-8566-763E370C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61D8B-7F91-4FD6-BDED-D7B8D82C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31BB6-6AFC-4BA9-B960-576D4B4E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A0035-B0EF-41BD-A6E6-FA944905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4C02B-A700-4CBD-A53D-B4B805D1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8DC91-7C94-4A43-AC32-8DA6B5D70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A1B8E-7DF8-4737-9E91-6D9469920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87F74-2252-452C-B025-3D8A1B291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60A9-DAFA-4A7C-83A6-848CDEA4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FAE7C-9F6F-4404-983A-3DA7A518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0BB6B-5760-46DE-9DF7-172DBA84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41DE0-211A-4C0B-8010-F2F65071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425A8-1A57-4B3B-B1DF-4752B12E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67F81-0E18-4BD1-9DEF-2ADC32FD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17698-DD05-4D6D-81FA-94961757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2C270-A3F9-46D1-AD0F-1CCE3C87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4E0D1-0103-414A-A127-0D332463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20E4D-FEC5-4ABE-85F5-9933488E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10A3B-F6FF-4350-8E3E-A520CDB3A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9823-B94B-43F4-B97C-06DC0DBC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C8BBB-30BB-466E-AE43-5286B6637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C943B-3A87-4478-9FEF-D3F912DF7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9DFFA-3BA3-4F3F-8D27-A403405F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E2E73-3107-4E22-AC42-68163540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C92D8-1DA9-4489-8E9F-1E567981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D3EF3-4273-49CC-BC95-BD875779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41FF8-78FE-4106-BEE1-A2A394D8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EDBEF-A635-4817-BDD5-07641824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0BC03-83ED-4BD9-AC27-875F1084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17B51-5259-464C-943F-55BB7B06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A04D-19AE-4631-B57C-74051142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D8CD9-9E16-4988-96D9-DC5F5A4B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2B4B5-1E79-438D-8605-7705B6D8F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EB766-10C2-41DA-824B-2CC6AFE81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652F8-A194-4675-9F9C-C642A3E28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2AACF-6755-4BCF-A246-EE4547A5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32FAA-8695-41AF-BE1E-C82FD749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3F8FF-8C1C-4A45-92E1-22E457C4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493FC-C88A-42A4-8F09-0A474928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F62A7-99AA-44DF-A7A2-82FCB02B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AE438-BD75-4FC6-B939-C162E9ED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43C1-5C5F-46CB-8E8C-0ABD487F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4E915-CA01-459D-AC27-7B6C4C2B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2829F-2A79-4409-AB92-0C5D4764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F8AD7-52A9-46AC-8FF4-3639494B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4EB98-90F1-4722-95E0-7EF4C4775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7272B-6321-49AD-86FF-4C4428351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9D1DF-D01A-40F5-A08D-52E0492E2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97569-C0E2-4DC3-8F93-5DB7CFB5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B2F40-D05A-44CA-A3E6-2B1E4248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6D42C-F3F3-4121-9660-4055AE56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CB2D8-67BF-40B2-BA2B-0425C92F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2940-AEDF-46EC-9B09-61038177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F7ED6-3F6E-4454-B391-5FBC2E50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501B7-ED8C-4210-984F-5EF717EF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3D972-C4F6-43DF-B848-7F04FFB1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387F5-11F3-4ABD-9AE7-2F518136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CC625-2A00-45F0-9257-6712AEB6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4F71B-F232-4418-87BC-4925A3720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816AB-3A6B-45AC-933B-62A43F382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9087-AF1C-4052-BADE-569A51E6A6F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11 Forma libre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5 Forma libre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7c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b8c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2da7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ada7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2aba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0459-093E-40E3-BC67-2289E2205FE5}" type="slidenum">
              <a:rPr b="0" lang="es-ES" sz="1000" spc="-1" strike="noStrike">
                <a:solidFill>
                  <a:srgbClr val="a2aba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89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ECE7-A603-473C-B0CA-3CCB96ED616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2936"/>
            </a:gs>
            <a:gs pos="100000">
              <a:srgbClr val="7f7f8a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8 Forma libre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10 Forma libre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7c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b8c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2da7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ada7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2aba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96B7-157A-4DE1-B3B5-B5D59D4568A1}" type="slidenum">
              <a:rPr b="0" lang="es-ES" sz="1000" spc="-1" strike="noStrike">
                <a:solidFill>
                  <a:srgbClr val="a2aba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2936"/>
            </a:gs>
            <a:gs pos="100000">
              <a:srgbClr val="7f7f8a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8 Forma libre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10 Forma libre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7c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b8c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2da7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ada7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2aba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17B5-5205-44E8-A11D-566186CEB9B0}" type="slidenum">
              <a:rPr b="0" lang="es-ES" sz="1000" spc="-1" strike="noStrike">
                <a:solidFill>
                  <a:srgbClr val="a2aba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7c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b8c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2da7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ada7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2aba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C29F-7970-458A-856A-2C80CA53E64A}" type="slidenum">
              <a:rPr b="0" lang="es-ES" sz="1000" spc="-1" strike="noStrike">
                <a:solidFill>
                  <a:srgbClr val="a2aba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11 Forma libre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5 Forma libre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7c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b8c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2da7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ada7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2aba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5872-0580-4D3D-BA57-28F304563276}" type="slidenum">
              <a:rPr b="0" lang="es-ES" sz="1000" spc="-1" strike="noStrike">
                <a:solidFill>
                  <a:srgbClr val="a2aba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7c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b8c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2da7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ada7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2aba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B977-93AF-4C94-8B85-F25EC44783EB}" type="slidenum">
              <a:rPr b="0" lang="es-ES" sz="1000" spc="-1" strike="noStrike">
                <a:solidFill>
                  <a:srgbClr val="a2aba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Rectangle 2" descr=""/>
          <p:cNvPicPr/>
          <p:nvPr/>
        </p:nvPicPr>
        <p:blipFill>
          <a:blip r:embed="rId1"/>
          <a:stretch/>
        </p:blipFill>
        <p:spPr>
          <a:xfrm>
            <a:off x="603360" y="426960"/>
            <a:ext cx="8216640" cy="1596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58920" y="1700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66ff"/>
                </a:solidFill>
                <a:latin typeface="Forte"/>
              </a:rPr>
              <a:t>Los puer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6699ff"/>
                </a:solidFill>
                <a:latin typeface="Forte"/>
              </a:rPr>
              <a:t>Localización de los puertos en un portátil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369800" y="1827360"/>
            <a:ext cx="7313400" cy="1015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2" descr="http://www.notebookcheck.org/typo3temp/pics/6224a1b31a.jpg"/>
          <p:cNvPicPr/>
          <p:nvPr/>
        </p:nvPicPr>
        <p:blipFill>
          <a:blip r:embed="rId2"/>
          <a:stretch/>
        </p:blipFill>
        <p:spPr>
          <a:xfrm>
            <a:off x="2500200" y="4357800"/>
            <a:ext cx="3508560" cy="20066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http://www.evisos.com.co/images/advertisements/2009/05/29/portatil-hp-mini-color-roja_591a68a1_3.jpg"/>
          <p:cNvPicPr/>
          <p:nvPr/>
        </p:nvPicPr>
        <p:blipFill>
          <a:blip r:embed="rId3"/>
          <a:stretch/>
        </p:blipFill>
        <p:spPr>
          <a:xfrm>
            <a:off x="4857840" y="2286000"/>
            <a:ext cx="3809880" cy="2666880"/>
          </a:xfrm>
          <a:prstGeom prst="rect">
            <a:avLst/>
          </a:prstGeom>
          <a:ln w="0">
            <a:noFill/>
          </a:ln>
        </p:spPr>
      </p:pic>
      <p:sp>
        <p:nvSpPr>
          <p:cNvPr id="388" name="5 Rectángulo"/>
          <p:cNvSpPr/>
          <p:nvPr/>
        </p:nvSpPr>
        <p:spPr>
          <a:xfrm>
            <a:off x="6572160" y="4071960"/>
            <a:ext cx="1857600" cy="785880"/>
          </a:xfrm>
          <a:prstGeom prst="rect">
            <a:avLst/>
          </a:prstGeom>
          <a:noFill/>
          <a:ln w="25560">
            <a:solidFill>
              <a:srgbClr val="95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6" descr="http://www.elparasitodelamanzana.com/wp-content/uploads/detalle-puertos-macbook.jpg"/>
          <p:cNvPicPr/>
          <p:nvPr/>
        </p:nvPicPr>
        <p:blipFill>
          <a:blip r:embed="rId4"/>
          <a:stretch/>
        </p:blipFill>
        <p:spPr>
          <a:xfrm>
            <a:off x="500040" y="1928880"/>
            <a:ext cx="435780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8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43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34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7" dur="10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9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4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31640" y="692280"/>
            <a:ext cx="7313400" cy="75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6699ff"/>
                </a:solidFill>
                <a:latin typeface="Forte"/>
              </a:rPr>
              <a:t>Tipos de puertos de un ordenador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030a0"/>
                </a:solidFill>
                <a:latin typeface="Verdana"/>
              </a:rPr>
              <a:t>Un </a:t>
            </a:r>
            <a:r>
              <a:rPr b="1" lang="es-ES" sz="2400" spc="-1" strike="noStrike" u="sng">
                <a:solidFill>
                  <a:srgbClr val="7030a0"/>
                </a:solidFill>
                <a:uFillTx/>
                <a:latin typeface="Verdana"/>
              </a:rPr>
              <a:t>puerto serie </a:t>
            </a:r>
            <a:r>
              <a:rPr b="0" lang="es-ES" sz="2400" spc="-1" strike="noStrike">
                <a:solidFill>
                  <a:srgbClr val="7030a0"/>
                </a:solidFill>
                <a:latin typeface="Verdana"/>
              </a:rPr>
              <a:t>es una interfaz de comunicaciones entre ordenadores y periféricos en donde la información es transmitida bit a bit enviando un solo bit a la vez</a:t>
            </a:r>
            <a:r>
              <a:rPr b="0" lang="es-ES" sz="3200" spc="-1" strike="noStrike">
                <a:solidFill>
                  <a:srgbClr val="7030a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8" name="Picture 7" descr="paralelo%20y%20serie"/>
          <p:cNvPicPr/>
          <p:nvPr/>
        </p:nvPicPr>
        <p:blipFill>
          <a:blip r:embed="rId1"/>
          <a:stretch/>
        </p:blipFill>
        <p:spPr>
          <a:xfrm>
            <a:off x="324000" y="3929040"/>
            <a:ext cx="345600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14280" y="28548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6699ff"/>
                </a:solidFill>
                <a:latin typeface="Forte"/>
              </a:rPr>
              <a:t>Puerto PS2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357200" y="1714680"/>
            <a:ext cx="731376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030a0"/>
                </a:solidFill>
                <a:latin typeface="Verdana"/>
              </a:rPr>
              <a:t>El conector PS/2 o puerto PS/2 toma su nombre de la serie de ordenadores IBM Personal System/2 que es creada por IBM en 1987, y empleada para conectar teclados y ratones</a:t>
            </a:r>
            <a:r>
              <a:rPr b="0" lang="es-ES" sz="2000" spc="-1" strike="noStrike">
                <a:solidFill>
                  <a:srgbClr val="6700e5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1" name="Picture 5" descr="http://1.bp.blogspot.com/_I5ep3WFhLiU/SXM4NyY85tI/AAAAAAAABEg/q_ugY9tuQUo/s400/ps2_usb.jpg"/>
          <p:cNvPicPr/>
          <p:nvPr/>
        </p:nvPicPr>
        <p:blipFill>
          <a:blip r:embed="rId1"/>
          <a:stretch/>
        </p:blipFill>
        <p:spPr>
          <a:xfrm>
            <a:off x="500040" y="3357720"/>
            <a:ext cx="4286160" cy="29620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7" descr="http://akamaipix.crutchfield.com/lifestyle/2001/hPS2KeyboardPlug.jpeg"/>
          <p:cNvPicPr/>
          <p:nvPr/>
        </p:nvPicPr>
        <p:blipFill>
          <a:blip r:embed="rId2"/>
          <a:stretch/>
        </p:blipFill>
        <p:spPr>
          <a:xfrm>
            <a:off x="5000760" y="3286080"/>
            <a:ext cx="3929040" cy="2809800"/>
          </a:xfrm>
          <a:prstGeom prst="rect">
            <a:avLst/>
          </a:prstGeom>
          <a:ln w="0">
            <a:noFill/>
          </a:ln>
        </p:spPr>
      </p:pic>
      <p:cxnSp>
        <p:nvCxnSpPr>
          <p:cNvPr id="353" name="12 Conector recto de flecha"/>
          <p:cNvCxnSpPr/>
          <p:nvPr/>
        </p:nvCxnSpPr>
        <p:spPr>
          <a:xfrm flipH="1">
            <a:off x="4214160" y="2857320"/>
            <a:ext cx="572040" cy="92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4" name="14 Conector recto de flecha"/>
          <p:cNvCxnSpPr/>
          <p:nvPr/>
        </p:nvCxnSpPr>
        <p:spPr>
          <a:xfrm flipH="1">
            <a:off x="2714400" y="2857680"/>
            <a:ext cx="786240" cy="78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79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2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0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6699ff"/>
                </a:solidFill>
                <a:latin typeface="Forte"/>
              </a:rPr>
              <a:t>Puertos paralelos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700e5"/>
                </a:solidFill>
                <a:latin typeface="Verdana"/>
              </a:rPr>
              <a:t>Los puertos físicos, son aquellos como el puerto  de una computadora. En este tipo de puertos, se puede llegar a conectar: un monitor, la impresora, el escáner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Picture 5" descr="http://2.bp.blogspot.com/_0mQ_CzmpX4M/Rv9S8JjoOPI/AAAAAAAAAK4/tUPaQr0CKD8/s400/800px-Scsi_extern_db25_st.jpg"/>
          <p:cNvPicPr/>
          <p:nvPr/>
        </p:nvPicPr>
        <p:blipFill>
          <a:blip r:embed="rId1"/>
          <a:stretch/>
        </p:blipFill>
        <p:spPr>
          <a:xfrm>
            <a:off x="5334120" y="4143240"/>
            <a:ext cx="3809880" cy="25005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5" descr="http://www.mod-pc.com/modules/Tienda/bimages/W011_big.jpg"/>
          <p:cNvPicPr/>
          <p:nvPr/>
        </p:nvPicPr>
        <p:blipFill>
          <a:blip r:embed="rId2"/>
          <a:stretch/>
        </p:blipFill>
        <p:spPr>
          <a:xfrm>
            <a:off x="0" y="3786120"/>
            <a:ext cx="47624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77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770" fill="hold"/>
                                        <p:tgtEl>
                                          <p:spTgt spid="3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8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38" dur="2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6699ff"/>
                </a:solidFill>
                <a:latin typeface="Forte"/>
              </a:rPr>
              <a:t>Puertos USB</a:t>
            </a:r>
            <a:r>
              <a:rPr b="1" lang="es-ES" sz="3600" spc="-1" strike="noStrike">
                <a:solidFill>
                  <a:srgbClr val="33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167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700e5"/>
                </a:solidFill>
                <a:latin typeface="Verdana"/>
              </a:rPr>
              <a:t>Permite conectar hasta 127 dispositivos y ya es un estándar en los ordenadores de última generación, que incluyen al menos dos puertos USB 1.1, o puertos USB 2.0 en los más moderno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1" name="Picture 9" descr="http://www.cepolina.com/fotolibre/f/Otros.objetos.de.la.tecnologala/Ordenador.puerto.USB.jpg"/>
          <p:cNvPicPr/>
          <p:nvPr/>
        </p:nvPicPr>
        <p:blipFill>
          <a:blip r:embed="rId1"/>
          <a:stretch/>
        </p:blipFill>
        <p:spPr>
          <a:xfrm>
            <a:off x="285840" y="3643200"/>
            <a:ext cx="3929040" cy="27860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1" descr="http://www.ordenadores-y-portatiles.com/images/cable-usb2.jpg"/>
          <p:cNvPicPr/>
          <p:nvPr/>
        </p:nvPicPr>
        <p:blipFill>
          <a:blip r:embed="rId2"/>
          <a:stretch/>
        </p:blipFill>
        <p:spPr>
          <a:xfrm>
            <a:off x="5143680" y="3643200"/>
            <a:ext cx="357156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4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4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3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6699ff"/>
                </a:solidFill>
                <a:latin typeface="Forte"/>
              </a:rPr>
              <a:t>Puertos de sonido y micro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3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700e5"/>
                </a:solidFill>
                <a:latin typeface="Verdana"/>
              </a:rPr>
              <a:t>Son aquellos puertos que permiten conectar el microprocesador con los altavoces y el micr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5" name="Picture 5" descr="http://www.misscompras.com/uploaded/normal/plantronics-cascos-con-microfono-pc-estereo-audio-326-hub-4-puertos-usb-20-auriculares-y-microfonos-de-plantronics.jpg"/>
          <p:cNvPicPr/>
          <p:nvPr/>
        </p:nvPicPr>
        <p:blipFill>
          <a:blip r:embed="rId1"/>
          <a:stretch/>
        </p:blipFill>
        <p:spPr>
          <a:xfrm>
            <a:off x="428760" y="3071880"/>
            <a:ext cx="3929040" cy="3429000"/>
          </a:xfrm>
          <a:prstGeom prst="rect">
            <a:avLst/>
          </a:prstGeom>
          <a:ln w="0">
            <a:noFill/>
          </a:ln>
        </p:spPr>
      </p:pic>
      <p:grpSp>
        <p:nvGrpSpPr>
          <p:cNvPr id="366" name="4 Flecha izquierda"/>
          <p:cNvGrpSpPr/>
          <p:nvPr/>
        </p:nvGrpSpPr>
        <p:grpSpPr>
          <a:xfrm>
            <a:off x="2779560" y="3882960"/>
            <a:ext cx="2219400" cy="1470240"/>
            <a:chOff x="2779560" y="3882960"/>
            <a:chExt cx="2219400" cy="1470240"/>
          </a:xfrm>
        </p:grpSpPr>
        <p:pic>
          <p:nvPicPr>
            <p:cNvPr id="367" name="4 Flecha izquierda" descr=""/>
            <p:cNvPicPr/>
            <p:nvPr/>
          </p:nvPicPr>
          <p:blipFill>
            <a:blip r:embed="rId2"/>
            <a:stretch/>
          </p:blipFill>
          <p:spPr>
            <a:xfrm>
              <a:off x="2779560" y="3882960"/>
              <a:ext cx="2219400" cy="147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3197160" y="4268880"/>
              <a:ext cx="16606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6 Elipse"/>
          <p:cNvSpPr/>
          <p:nvPr/>
        </p:nvSpPr>
        <p:spPr>
          <a:xfrm>
            <a:off x="2643120" y="5214960"/>
            <a:ext cx="857160" cy="714240"/>
          </a:xfrm>
          <a:prstGeom prst="ellipse">
            <a:avLst/>
          </a:prstGeom>
          <a:noFill/>
          <a:ln w="25560">
            <a:solidFill>
              <a:srgbClr val="95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1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6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6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6699ff"/>
                </a:solidFill>
                <a:latin typeface="Forte"/>
              </a:rPr>
              <a:t>Puerto de red o Etherne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369800" y="1827360"/>
            <a:ext cx="7313400" cy="13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700e5"/>
                </a:solidFill>
                <a:latin typeface="Verdana"/>
              </a:rPr>
              <a:t>Es un cable que se encarga de conectar al usuario atravez del uso de un router con interne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2" name="Picture 4" descr="C:\Users\Usuario\Pictures\Álbumes de fotos\fotos variadas\SDC10242.JPG"/>
          <p:cNvPicPr/>
          <p:nvPr/>
        </p:nvPicPr>
        <p:blipFill>
          <a:blip r:embed="rId1"/>
          <a:stretch/>
        </p:blipFill>
        <p:spPr>
          <a:xfrm>
            <a:off x="0" y="3071880"/>
            <a:ext cx="3286080" cy="22143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5" descr="C:\Users\Usuario\Pictures\Álbumes de fotos\fotos variadas\SDC10245.JPG"/>
          <p:cNvPicPr/>
          <p:nvPr/>
        </p:nvPicPr>
        <p:blipFill>
          <a:blip r:embed="rId2"/>
          <a:stretch/>
        </p:blipFill>
        <p:spPr>
          <a:xfrm>
            <a:off x="5553000" y="2857680"/>
            <a:ext cx="3591000" cy="32860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6" descr="C:\Users\Usuario\Pictures\Álbumes de fotos\fotos variadas\SDC10247.JPG"/>
          <p:cNvPicPr/>
          <p:nvPr/>
        </p:nvPicPr>
        <p:blipFill>
          <a:blip r:embed="rId3"/>
          <a:stretch/>
        </p:blipFill>
        <p:spPr>
          <a:xfrm>
            <a:off x="2571840" y="4357800"/>
            <a:ext cx="30718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1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8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1" dur="5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6699ff"/>
                </a:solidFill>
                <a:latin typeface="Forte"/>
              </a:rPr>
              <a:t>Puertos inalámbricos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369800" y="1827000"/>
            <a:ext cx="7313400" cy="167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030a0"/>
                </a:solidFill>
                <a:latin typeface="Verdana"/>
              </a:rPr>
              <a:t>Es un tipo de puerto cuya conexión no se hace por cable, sino que se conecta al receptor atravez de ondas electromagnétic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7" name="Picture 2" descr="http://imagenes.solostocks.com/z14639554/trust-raton-inalambrico-15902-hub-4-puertos-usb-2-0-distribuidor-de-100-toal.jpg"/>
          <p:cNvPicPr/>
          <p:nvPr/>
        </p:nvPicPr>
        <p:blipFill>
          <a:blip r:embed="rId1"/>
          <a:stretch/>
        </p:blipFill>
        <p:spPr>
          <a:xfrm>
            <a:off x="0" y="4210200"/>
            <a:ext cx="2928960" cy="26478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" descr="http://imagenes.solostocks.com/z14446480/d-link-modem-router-adsl2-inalambrico-11-54mbps-con-switch-4-puertos-10-100mbp.jpg"/>
          <p:cNvPicPr/>
          <p:nvPr/>
        </p:nvPicPr>
        <p:blipFill>
          <a:blip r:embed="rId2"/>
          <a:stretch/>
        </p:blipFill>
        <p:spPr>
          <a:xfrm>
            <a:off x="6072120" y="2714760"/>
            <a:ext cx="3071880" cy="21430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http://www.appinformatica.com/imf/teclados-genius-ergomedia-r800-inalambrico-2.4ghz-1g.jpg"/>
          <p:cNvPicPr/>
          <p:nvPr/>
        </p:nvPicPr>
        <p:blipFill>
          <a:blip r:embed="rId3"/>
          <a:stretch/>
        </p:blipFill>
        <p:spPr>
          <a:xfrm>
            <a:off x="2857680" y="4181400"/>
            <a:ext cx="392904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6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0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99ff"/>
                </a:solidFill>
                <a:latin typeface="Forte"/>
              </a:rPr>
              <a:t>Localización de los puertos en un ordenador de sobremesa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370160" y="5928840"/>
            <a:ext cx="5559120" cy="716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http://4.bp.blogspot.com/_0AXN8wU9wEI/St7znvxd-dI/AAAAAAAAABU/xZVmP_4Imzc/s320/puertos-de-un-ordenador.jpg"/>
          <p:cNvPicPr/>
          <p:nvPr/>
        </p:nvPicPr>
        <p:blipFill>
          <a:blip r:embed="rId2"/>
          <a:stretch/>
        </p:blipFill>
        <p:spPr>
          <a:xfrm>
            <a:off x="0" y="2500200"/>
            <a:ext cx="4357800" cy="41198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http://www.euskalnet.net/txotxe/images/dell-gx260.jpg"/>
          <p:cNvPicPr/>
          <p:nvPr/>
        </p:nvPicPr>
        <p:blipFill>
          <a:blip r:embed="rId3"/>
          <a:stretch/>
        </p:blipFill>
        <p:spPr>
          <a:xfrm>
            <a:off x="5357880" y="1571760"/>
            <a:ext cx="37861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88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9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10:35:16Z</dcterms:created>
  <dc:creator>Proyecto Medusa</dc:creator>
  <dc:description/>
  <dc:language>en-US</dc:language>
  <cp:lastModifiedBy>Usuario</cp:lastModifiedBy>
  <dcterms:modified xsi:type="dcterms:W3CDTF">2010-02-01T11:56:29Z</dcterms:modified>
  <cp:revision>20</cp:revision>
  <dc:subject/>
  <dc:title>Componentes de un ordenador</dc:title>
</cp:coreProperties>
</file>